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66F-6D02-4404-B2CC-C79B6633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596-B0F2-4BC4-A439-D6552EA7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8F6-68E4-42FB-B9E0-2BD29820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D4F-0C5C-4501-AEEE-740FB55A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CB4-4D50-49FA-BE9A-E3D3397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231-3923-4E40-8342-AACA205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B3E-9BBA-4659-827C-F09B7678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FDF-D16A-4587-A8CE-1198F28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A1E-0B65-4B01-B579-89FF7E39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E27-F5C5-419C-8702-1E0D527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EFB-3600-4E2A-9A51-AF82D27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FF5-0714-4894-9A79-B4BFD11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0BA7-7467-484B-9EF8-48AB293EDC4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Vízener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Vízenergia előállítá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vizet megduzzasztjá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Magasról érkezik a víz a turbinákhoz,meghajtja a turbinát,ennek következtében áramot állít elő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286160" y="3571920"/>
            <a:ext cx="443700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Vízerőmű energiatermelé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Bár a nagy vízerőművek dolgozzák fel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legtöbb vízenergiát, a kis vízerőművek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MW teljesítményig, jelentősége is nagy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ezek különösen népszerűek Kínában, ahol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világ kis vízerőmű kapacitásának több m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50%-a üzeme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572080" y="4929120"/>
            <a:ext cx="26398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Vízenergia történ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középkorba kezdték el hasznosítani a ví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energiáját gabona őrlésére és fafűrészelés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Tesla feltalálta az elektromos áramot, en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hatására a vízimalmok elektromos áram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kezdtek termel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Tanulo\Desktop\VÍZENERGIA_files\alulcsapott k.JPG"/>
          <p:cNvPicPr/>
          <p:nvPr/>
        </p:nvPicPr>
        <p:blipFill>
          <a:blip r:embed="rId1"/>
          <a:stretch/>
        </p:blipFill>
        <p:spPr>
          <a:xfrm>
            <a:off x="6156360" y="422100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Tanulo\Desktop\VÍZENERGIA_files\felulcsapott k.JPG"/>
          <p:cNvPicPr/>
          <p:nvPr/>
        </p:nvPicPr>
        <p:blipFill>
          <a:blip r:embed="rId2"/>
          <a:stretch/>
        </p:blipFill>
        <p:spPr>
          <a:xfrm>
            <a:off x="4680" y="4440240"/>
            <a:ext cx="273528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A régi vízimalom működé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Egy sebes folyam mellé építetté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lapátokat egy tengellyel építették öss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tengely meghajtot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malomköveket vagy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fűrészlapot,  így végez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munká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72040" y="3714840"/>
            <a:ext cx="384012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Vízenergia használ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Gát működ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Víz alatti szélerőm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Hidrogénmotor működ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060960" y="3675240"/>
            <a:ext cx="2381400" cy="218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Calibri"/>
              </a:rPr>
              <a:t>Készítetté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Laczó Il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Mészáros Sán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Göstl Ti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Bolla Mar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0:06:33Z</dcterms:created>
  <dc:creator>Tanulo</dc:creator>
  <dc:description/>
  <dc:language>en-US</dc:language>
  <cp:lastModifiedBy>xy</cp:lastModifiedBy>
  <dcterms:modified xsi:type="dcterms:W3CDTF">2020-02-19T20:44:39Z</dcterms:modified>
  <cp:revision>9</cp:revision>
  <dc:subject/>
  <dc:title>Vízenerg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AE652FA3F73A54E951A47CBE2045B6A</vt:lpwstr>
  </property>
</Properties>
</file>