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B78-E5F6-4F28-9631-025A2B3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8F8-118E-4D21-8A11-ACECFEA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B56-6025-4600-8DD7-3C570904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6AF-4563-479F-87BA-545A3D32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B28-6070-46CD-BE5E-A874E717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FC5-2B92-4CC8-8B26-A120E3C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CB1-582D-47C5-BC6C-89BFCE9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3DD-DB1C-47D5-BEF0-BB804E8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BD9-2CF5-4D7A-9BB8-37D182ED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CDA-B08B-41CB-8507-DF69BB2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9DB-7220-4CAB-8671-3892112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63C-5836-4B4C-AFE1-8B562BC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F17-A0D7-4CB6-8029-FED760F4AEE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u.wikipedia.org/wiki/Nap" TargetMode="External"/><Relationship Id="rId2" Type="http://schemas.openxmlformats.org/officeDocument/2006/relationships/hyperlink" Target="http://hu.wikipedia.org/wiki/Plazma" TargetMode="External"/><Relationship Id="rId3" Type="http://schemas.openxmlformats.org/officeDocument/2006/relationships/hyperlink" Target="http://hu.wikipedia.org/wiki/Hidrog&#233;n" TargetMode="External"/><Relationship Id="rId4" Type="http://schemas.openxmlformats.org/officeDocument/2006/relationships/hyperlink" Target="http://hu.wikipedia.org/wiki/H&#233;lium" TargetMode="External"/><Relationship Id="rId5" Type="http://schemas.openxmlformats.org/officeDocument/2006/relationships/hyperlink" Target="http://hu.wikipedia.org/wiki/Oxig&#233;n" TargetMode="External"/><Relationship Id="rId6" Type="http://schemas.openxmlformats.org/officeDocument/2006/relationships/hyperlink" Target="http://hu.wikipedia.org/wiki/Sz&#233;n" TargetMode="External"/><Relationship Id="rId7" Type="http://schemas.openxmlformats.org/officeDocument/2006/relationships/hyperlink" Target="http://hu.wikipedia.org/wiki/Vas" TargetMode="External"/><Relationship Id="rId8" Type="http://schemas.openxmlformats.org/officeDocument/2006/relationships/hyperlink" Target="http://hu.wikipedia.org/wiki/Neon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A napener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Calibri"/>
              </a:rPr>
              <a:t>A N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2492280"/>
          <a:ext cx="3313080" cy="338472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</a:tblGrid>
              <a:tr h="3384720">
                <a:tc>
                  <a:txBody>
                    <a:bodyPr lIns="32400" rIns="19440" tIns="32400" bIns="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llagösszetevő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1944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otoszféra összetétele</a:t>
                      </a:r>
                      <a:r>
                        <a:rPr b="0" lang="hu-HU" sz="1200" spc="-1" strike="noStrike" u="sng" baseline="30000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[1]</a:t>
                      </a:r>
                      <a:br>
                        <a:rPr sz="1200"/>
                      </a:b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z anyagok </a:t>
                      </a: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plazma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llagúak)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idrogé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73,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hélium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24,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oxigé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szé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/>
                        </a:rPr>
                        <a:t>va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/>
                        </a:rPr>
                        <a:t>neo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b0080"/>
                          </a:solidFill>
                          <a:latin typeface="Calibri"/>
                        </a:rPr>
                        <a:t>nitrogé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b0080"/>
                          </a:solidFill>
                          <a:latin typeface="Calibri"/>
                        </a:rPr>
                        <a:t>szilícium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b0080"/>
                          </a:solidFill>
                          <a:latin typeface="Calibri"/>
                        </a:rPr>
                        <a:t>magnézium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b008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b0080"/>
                          </a:solidFill>
                          <a:latin typeface="Calibri"/>
                        </a:rPr>
                        <a:t>kén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0,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44" name="Téglalap 2"/>
          <p:cNvSpPr/>
          <p:nvPr/>
        </p:nvSpPr>
        <p:spPr>
          <a:xfrm>
            <a:off x="3780000" y="1484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Nap a Naprendszer központi csillaga. Körülötte kering a Föld, valamint a Naprendszerhez tartozó bolygók, törpebolygók, kisbolygók, üstökösök, stb. A Földtől körülbelül 150 millió km távolságra van, ami fénysebességgel 8,3 per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Földtől mért távolság: 149 600 00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Felületi hőmérséklet: 5 778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00"/>
                </a:solidFill>
                <a:latin typeface="Calibri"/>
              </a:rPr>
              <a:t>Napelem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A 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napelem</a:t>
            </a: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 olyan szilárdtest eszköz, amely az elektromágneses sugárzást (fotonbefogást) közvetlenül villamos energiává alakítja. Ez a jelenség bármilyen megfelelő fényspektrummal rendelkező fényforrás esetén is lezajlik, nem szükséges kizárólagosan napfé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A napelemekre általában 20-25 év a garancia, jellemzően 20-40 év az élettartamuk. A napenergia hasznosításában hosszabb távon számottevő növekedés várhat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A ma létező nagy teljesítményű naperőművek jellemzően nem ezt a technológiát alkalmazzák; a naphőerőművek a Nap hőjét forró gőznek vagy folyadéknak adják át, ezzel turbinák segítségével nyernek áramot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77933c"/>
                </a:solidFill>
                <a:latin typeface="Calibri"/>
              </a:rPr>
              <a:t>Napenergia felhasználás(elektromosság és vízmelegíté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46040" y="1484280"/>
            <a:ext cx="2736720" cy="2416320"/>
          </a:xfrm>
          <a:prstGeom prst="rect">
            <a:avLst/>
          </a:prstGeom>
          <a:ln w="0">
            <a:noFill/>
          </a:ln>
        </p:spPr>
      </p:pic>
      <p:sp>
        <p:nvSpPr>
          <p:cNvPr id="49" name="Téglalap 3"/>
          <p:cNvSpPr/>
          <p:nvPr/>
        </p:nvSpPr>
        <p:spPr>
          <a:xfrm>
            <a:off x="3635280" y="1484280"/>
            <a:ext cx="4249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Napból érkező energia hasznosításának két alapvető módja létezik: a passzív és az aktív energiatermelés. Naperőművekben alakítják át a napenergiát elektromos áramm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Passzív hasznosításkor az épület tájolása és a felhasznált építőanyagok a meghatározóak. Ilyenkor az üvegházhatást használjuk ki hőtermelésre. Alapjában véve passzív napenergia-hasznosító minden olyan épület, amely környezeti adottságai, építészeti kialakítása következtében képes használni a Nap sugárzását, mint energiaforrá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z aktív energiatermelésnek két módja van. Első módszer, hogy a napenergiát hőenergiává alakítjuk. A jellegzetes napenergia hasznosító épületeken nagy üvegfelületek néznek déli irányba, melyeket estére hőszigetelő táblákkal fednek. Az üvegezésen keresztül a fény vastag, nagy hőtároló képességű padlóra és falakra esik, melyek külső felületei szintén hőszigeteltek, így hosszú időn át képesek tárolni az elnyelt hőt. A hőenergia gyűjtése és tárolása főképp napkollektorokkal történik. Ez az a berendezés, ami elnyeli a napsugárzás energiáját, átalakítja hőenergiává, majd ezt átadja valamilyen hőhordozó közegn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másik módszerrel , a napelem segítségével - a napsugárzás energiáját elektromos energiává alakítju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agyarországon 2007 augusztusában telepítettek először napkollektort panelházra, a miskolci Avas egyik 50 lakásos házá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06280" y="4056120"/>
            <a:ext cx="3354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 napelemek történ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églalap 3"/>
          <p:cNvSpPr/>
          <p:nvPr/>
        </p:nvSpPr>
        <p:spPr>
          <a:xfrm>
            <a:off x="179280" y="1484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első igazi napelemet Charles Fritts készítette New Yorkban: egy táblán szelén réteget vékony és félig átlátszó aranyfilmmel vont be 1885-ben, ami folyamatosan tudott áramot termeln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364000" y="1295280"/>
            <a:ext cx="2857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2f2f2"/>
                </a:solidFill>
                <a:latin typeface="Calibri"/>
              </a:rPr>
              <a:t>Napenergia a közlekedés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4568760"/>
            <a:ext cx="3351240" cy="22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958000" y="1230480"/>
            <a:ext cx="3186000" cy="20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5508720" y="4792680"/>
            <a:ext cx="36306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Calibri"/>
              </a:rPr>
              <a:t>Képe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4286160" cy="26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786200" y="1500120"/>
            <a:ext cx="3986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észítetté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Rugovics Klau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agy Ke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áhn Fruz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Boráros Andr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0:04:40Z</dcterms:created>
  <dc:creator>Tanulo</dc:creator>
  <dc:description/>
  <dc:language>en-US</dc:language>
  <cp:lastModifiedBy>Néder Katalin</cp:lastModifiedBy>
  <dcterms:modified xsi:type="dcterms:W3CDTF">2020-02-24T10:17:02Z</dcterms:modified>
  <cp:revision>17</cp:revision>
  <dc:subject/>
  <dc:title>A Nap energ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AE652FA3F73A54E951A47CBE2045B6A</vt:lpwstr>
  </property>
</Properties>
</file>